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0F34-960E-4B08-9062-7DAABD3A5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DC89-7041-46CA-BCDF-BD78A6417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32BC-57AE-4747-B680-62A4B3DC9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2F81-C214-4BBA-8C07-D91B2A3DB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9446-60EE-44A8-BE8B-7B69F4EC4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9121-8A36-457D-9D39-6F0A18EE2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9DCB-1334-4704-9AEC-329491D06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ED9B-42CB-4207-BD04-6339C2485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1E85-DE01-4105-AA38-AB1DE5025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BAA8-D9D5-4B8D-925A-0F5F185E8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F55-7E14-420A-A629-8B8490E8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AE9F-4345-4518-8945-FDA4E5DA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3AC-2165-4E75-8D9D-AB5B3251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8E21-575E-417F-B874-584C0808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D038-876F-4A30-B122-5BC38BC0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75A6-4F06-413D-AB77-E9BFBB89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EB60-2952-4B6D-B494-AA14C122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00E7-295B-4571-9111-568E8BC8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EE0A-8403-4AB1-8528-354012A3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F1F6-6F05-466F-985C-EA27F707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679C-6FDD-420E-97E8-D1869A82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9E39-8A79-49E5-8911-E12A89D0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1547-D0ED-41D5-8768-4A399481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2E75-B57C-4B96-9488-80ECA46C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15A0-F268-4D65-8FB9-A56FAF1C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383D-9035-42EC-B43D-D7CDCEEE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6EBA-C831-4BB9-B1AF-1E8FB797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F600-E635-4012-B25D-DC572B07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0B5E-EF13-4C39-9D4C-6596F717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E987-A0E2-4ECD-AE20-8C3375EA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682C-8173-4E7B-AA0C-0B3D7581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05CD-DC19-4EFA-9F51-CA864A4F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64D8-9205-4BA9-B450-8599E8EA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4CF-6BF2-4377-8C1B-D28C257A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884E-96BC-43CA-9BFB-259E02E493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03CF-7A41-4CFD-A84C-A2C98D1C59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7"/>
          <p:cNvSpPr/>
          <p:nvPr/>
        </p:nvSpPr>
        <p:spPr>
          <a:xfrm>
            <a:off x="831960" y="301680"/>
            <a:ext cx="77724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Arial"/>
              </a:rPr>
              <a:t>Yr 12 IB Chemis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071720" y="2836440"/>
            <a:ext cx="289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centage Yiel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centage Atom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uring a Re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http://www.consumerist.com/assets/resources/2006/10/alchemical.jpg"/>
          <p:cNvPicPr/>
          <p:nvPr/>
        </p:nvPicPr>
        <p:blipFill>
          <a:blip r:embed="rId1"/>
          <a:stretch/>
        </p:blipFill>
        <p:spPr>
          <a:xfrm>
            <a:off x="4248000" y="2000160"/>
            <a:ext cx="38102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2124000" y="259380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ff"/>
                </a:solidFill>
                <a:latin typeface="Arial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1857600" y="427680"/>
            <a:ext cx="541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Percentage Yield During a Re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8360" y="1514520"/>
          <a:ext cx="1800000" cy="366840"/>
        </p:xfrm>
        <a:graphic>
          <a:graphicData uri="http://schemas.openxmlformats.org/drawingml/2006/table">
            <a:tbl>
              <a:tblPr/>
              <a:tblGrid>
                <a:gridCol w="1576440"/>
                <a:gridCol w="223560"/>
              </a:tblGrid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% Yield 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Rectangle 33"/>
          <p:cNvSpPr/>
          <p:nvPr/>
        </p:nvSpPr>
        <p:spPr>
          <a:xfrm>
            <a:off x="1750680" y="1267920"/>
            <a:ext cx="53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ctual Yield in Gram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Produced During an Experi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47640" y="1773360"/>
          <a:ext cx="6328080" cy="366480"/>
        </p:xfrm>
        <a:graphic>
          <a:graphicData uri="http://schemas.openxmlformats.org/drawingml/2006/table">
            <a:tbl>
              <a:tblPr/>
              <a:tblGrid>
                <a:gridCol w="6080400"/>
                <a:gridCol w="247680"/>
              </a:tblGrid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heoretical Yiel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as predicted by reaction equation)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n 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740720" y="1484280"/>
          <a:ext cx="1008000" cy="366840"/>
        </p:xfrm>
        <a:graphic>
          <a:graphicData uri="http://schemas.openxmlformats.org/drawingml/2006/table">
            <a:tbl>
              <a:tblPr/>
              <a:tblGrid>
                <a:gridCol w="1008000"/>
              </a:tblGrid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Line 208"/>
          <p:cNvSpPr/>
          <p:nvPr/>
        </p:nvSpPr>
        <p:spPr>
          <a:xfrm>
            <a:off x="1606680" y="1714680"/>
            <a:ext cx="59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4"/>
          <p:cNvSpPr/>
          <p:nvPr/>
        </p:nvSpPr>
        <p:spPr>
          <a:xfrm>
            <a:off x="549360" y="2817000"/>
            <a:ext cx="56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% yield will usually b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ss than 100%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because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6"/>
          <p:cNvSpPr/>
          <p:nvPr/>
        </p:nvSpPr>
        <p:spPr>
          <a:xfrm>
            <a:off x="535320" y="3485160"/>
            <a:ext cx="41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. The reaction may b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comp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8"/>
          <p:cNvSpPr/>
          <p:nvPr/>
        </p:nvSpPr>
        <p:spPr>
          <a:xfrm>
            <a:off x="533160" y="4061520"/>
            <a:ext cx="35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ther reaction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may occ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0"/>
          <p:cNvSpPr/>
          <p:nvPr/>
        </p:nvSpPr>
        <p:spPr>
          <a:xfrm>
            <a:off x="532800" y="4651920"/>
            <a:ext cx="59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. Product 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os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during separation and purif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2">
            <a:hlinkClick r:id="" action="ppaction://hlinkshowjump?jump=nextslide"/>
          </p:cNvPr>
          <p:cNvSpPr/>
          <p:nvPr/>
        </p:nvSpPr>
        <p:spPr>
          <a:xfrm>
            <a:off x="8604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95280" y="333360"/>
          <a:ext cx="8424720" cy="45720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</a:rPr>
                        <a:t>Steps to Calculate a Percentage Y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70"/>
          <p:cNvSpPr/>
          <p:nvPr/>
        </p:nvSpPr>
        <p:spPr>
          <a:xfrm>
            <a:off x="250920" y="105264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1. Convert the mass of main reactant to a number of moles us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ol = mass/molar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3"/>
          <p:cNvSpPr/>
          <p:nvPr/>
        </p:nvSpPr>
        <p:spPr>
          <a:xfrm>
            <a:off x="264960" y="195912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2. Calculate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heoretical number  of mol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f product using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atio from the balanced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6"/>
          <p:cNvSpPr/>
          <p:nvPr/>
        </p:nvSpPr>
        <p:spPr>
          <a:xfrm>
            <a:off x="279360" y="28526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3. Calculate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heoretical mas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f product us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ass = mol x molar m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9"/>
          <p:cNvSpPr/>
          <p:nvPr/>
        </p:nvSpPr>
        <p:spPr>
          <a:xfrm>
            <a:off x="284400" y="378936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4. Calculate the percentage yield using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71640" y="4829040"/>
          <a:ext cx="1800000" cy="457200"/>
        </p:xfrm>
        <a:graphic>
          <a:graphicData uri="http://schemas.openxmlformats.org/drawingml/2006/table">
            <a:tbl>
              <a:tblPr/>
              <a:tblGrid>
                <a:gridCol w="1576440"/>
                <a:gridCol w="2235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% Yield 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89"/>
          <p:cNvSpPr/>
          <p:nvPr/>
        </p:nvSpPr>
        <p:spPr>
          <a:xfrm>
            <a:off x="3330720" y="456768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tual Yield in 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725560" y="5133960"/>
          <a:ext cx="5015160" cy="457200"/>
        </p:xfrm>
        <a:graphic>
          <a:graphicData uri="http://schemas.openxmlformats.org/drawingml/2006/table">
            <a:tbl>
              <a:tblPr/>
              <a:tblGrid>
                <a:gridCol w="5015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heoretical Yield in Gra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7164360" y="4809960"/>
          <a:ext cx="1295280" cy="4572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 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Line 113"/>
          <p:cNvSpPr/>
          <p:nvPr/>
        </p:nvSpPr>
        <p:spPr>
          <a:xfrm>
            <a:off x="2962440" y="5068800"/>
            <a:ext cx="39621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5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571680" y="5857920"/>
            <a:ext cx="72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N.B. This assumes all other reactants are present in excess, or at least in stoichiometric a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676440" y="398520"/>
            <a:ext cx="74358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12880" indent="-81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e.g1  12.0g ethanol (C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H) is reacted to produce 5.3g of ethene (C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). Calculate the % yield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591480" y="1556280"/>
            <a:ext cx="45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1.      Number of moles of ethanol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610560" y="2392920"/>
            <a:ext cx="37749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2.      C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H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5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OH  </a:t>
            </a:r>
            <a:r>
              <a:rPr b="0" lang="en-US" sz="2000" spc="-1" strike="noStrike">
                <a:solidFill>
                  <a:srgbClr val="80008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  C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H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4 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+  H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O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565200" y="4002840"/>
            <a:ext cx="47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3.      Theoretical mass of ethene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1258200" y="1916280"/>
            <a:ext cx="1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= 12.0 / 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2700360" y="1908000"/>
            <a:ext cx="8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1228320" y="2951280"/>
            <a:ext cx="54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Theoretical number of moles of ethene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1330920" y="4471920"/>
            <a:ext cx="14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= 0.26 x 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2916360" y="4484520"/>
            <a:ext cx="8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.3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1237680" y="3448080"/>
            <a:ext cx="27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26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 since 1:1 re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33440" y="5172120"/>
          <a:ext cx="1800360" cy="396720"/>
        </p:xfrm>
        <a:graphic>
          <a:graphicData uri="http://schemas.openxmlformats.org/drawingml/2006/table">
            <a:tbl>
              <a:tblPr/>
              <a:tblGrid>
                <a:gridCol w="1576440"/>
                <a:gridCol w="22392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% Yield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Rectangle 28"/>
          <p:cNvSpPr/>
          <p:nvPr/>
        </p:nvSpPr>
        <p:spPr>
          <a:xfrm>
            <a:off x="3117240" y="50472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5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119400" y="5413320"/>
          <a:ext cx="765360" cy="397080"/>
        </p:xfrm>
        <a:graphic>
          <a:graphicData uri="http://schemas.openxmlformats.org/drawingml/2006/table">
            <a:tbl>
              <a:tblPr/>
              <a:tblGrid>
                <a:gridCol w="765360"/>
              </a:tblGrid>
              <a:tr h="397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708360" y="5176800"/>
          <a:ext cx="1295280" cy="39708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Line 41"/>
          <p:cNvSpPr/>
          <p:nvPr/>
        </p:nvSpPr>
        <p:spPr>
          <a:xfrm>
            <a:off x="3021120" y="5411880"/>
            <a:ext cx="718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5"/>
          <p:cNvSpPr/>
          <p:nvPr/>
        </p:nvSpPr>
        <p:spPr>
          <a:xfrm>
            <a:off x="612720" y="5149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8"/>
          <p:cNvSpPr/>
          <p:nvPr/>
        </p:nvSpPr>
        <p:spPr>
          <a:xfrm>
            <a:off x="4700520" y="5213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= 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72.5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0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571680" y="185760"/>
            <a:ext cx="7967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12880" indent="-81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e.g2  8.85 g of sodium hydroxide (NaOH) is reacted to produce 9.45 g of  sodium carbonate (Na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O</a:t>
            </a:r>
            <a:r>
              <a:rPr b="0" lang="en-US" sz="24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). Calculate the % yield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12000" y="155772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1.      Number of moles of NaOH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631080" y="2394360"/>
            <a:ext cx="49435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2.      2NaOH  +  CO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  </a:t>
            </a:r>
            <a:r>
              <a:rPr b="0" lang="en-US" sz="2000" spc="-1" strike="noStrike">
                <a:solidFill>
                  <a:srgbClr val="80008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  Na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CO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3 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+  H</a:t>
            </a:r>
            <a:r>
              <a:rPr b="0" lang="en-US" sz="2000" spc="-1" strike="noStrike" baseline="-30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O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596880" y="3983400"/>
            <a:ext cx="484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3.      Theoretical mass of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Na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1267920" y="1916280"/>
            <a:ext cx="319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= 8.85 / (23.0 + 16.0 + 1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387680" y="190800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=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2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1314000" y="2951280"/>
            <a:ext cx="5495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Theoretical number of moles of Na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1319760" y="4471920"/>
            <a:ext cx="32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= 0.111 x (2(23)+12+3(16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4566960" y="448452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1.73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1240200" y="3448080"/>
            <a:ext cx="423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221/2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  (since 2:1 re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) 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33440" y="5172120"/>
          <a:ext cx="1800360" cy="396720"/>
        </p:xfrm>
        <a:graphic>
          <a:graphicData uri="http://schemas.openxmlformats.org/drawingml/2006/table">
            <a:tbl>
              <a:tblPr/>
              <a:tblGrid>
                <a:gridCol w="1576440"/>
                <a:gridCol w="22392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% Yield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28"/>
          <p:cNvSpPr/>
          <p:nvPr/>
        </p:nvSpPr>
        <p:spPr>
          <a:xfrm>
            <a:off x="3062520" y="50011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9.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976480" y="5500800"/>
          <a:ext cx="1095480" cy="396720"/>
        </p:xfrm>
        <a:graphic>
          <a:graphicData uri="http://schemas.openxmlformats.org/drawingml/2006/table">
            <a:tbl>
              <a:tblPr/>
              <a:tblGrid>
                <a:gridCol w="109548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.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708360" y="5176800"/>
          <a:ext cx="1295280" cy="39708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Line 41"/>
          <p:cNvSpPr/>
          <p:nvPr/>
        </p:nvSpPr>
        <p:spPr>
          <a:xfrm>
            <a:off x="3021120" y="5411880"/>
            <a:ext cx="718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5"/>
          <p:cNvSpPr/>
          <p:nvPr/>
        </p:nvSpPr>
        <p:spPr>
          <a:xfrm>
            <a:off x="612720" y="5149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8"/>
          <p:cNvSpPr/>
          <p:nvPr/>
        </p:nvSpPr>
        <p:spPr>
          <a:xfrm>
            <a:off x="4707000" y="520596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= 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80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0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428760" y="314280"/>
            <a:ext cx="70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% Atom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360360" y="785880"/>
            <a:ext cx="792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 measure of the percentage of the starting materials that actually ends up in the useful prod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60360" y="1357200"/>
            <a:ext cx="807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The greater the % atom economy of a reaction, the more 'efficient' or 'economic' it is likely to b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360360" y="2000160"/>
            <a:ext cx="650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To calculate the % Atom Economy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360360" y="2500200"/>
            <a:ext cx="813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Write the balanced equation for the re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360360" y="2857680"/>
            <a:ext cx="785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2.  Calculate the total mass of the reactants for the numbers of moles in the reaction equ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360360" y="350028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3.  Calculate the total mass of the “desired product” for the numbers of moles in the reaction eq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5"/>
          <p:cNvGrpSpPr/>
          <p:nvPr/>
        </p:nvGrpSpPr>
        <p:grpSpPr>
          <a:xfrm>
            <a:off x="357120" y="3929040"/>
            <a:ext cx="4572000" cy="1303560"/>
            <a:chOff x="357120" y="3929040"/>
            <a:chExt cx="4572000" cy="1303560"/>
          </a:xfrm>
        </p:grpSpPr>
        <p:grpSp>
          <p:nvGrpSpPr>
            <p:cNvPr id="175" name="Group 13"/>
            <p:cNvGrpSpPr/>
            <p:nvPr/>
          </p:nvGrpSpPr>
          <p:grpSpPr>
            <a:xfrm>
              <a:off x="357120" y="3929040"/>
              <a:ext cx="4572000" cy="1303560"/>
              <a:chOff x="357120" y="3929040"/>
              <a:chExt cx="4572000" cy="1303560"/>
            </a:xfrm>
          </p:grpSpPr>
          <p:sp>
            <p:nvSpPr>
              <p:cNvPr id="176" name="Straight Connector 8"/>
              <p:cNvSpPr/>
              <p:nvPr/>
            </p:nvSpPr>
            <p:spPr>
              <a:xfrm>
                <a:off x="2928960" y="4577040"/>
                <a:ext cx="135720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2"/>
              <p:cNvSpPr/>
              <p:nvPr/>
            </p:nvSpPr>
            <p:spPr>
              <a:xfrm>
                <a:off x="357120" y="3929040"/>
                <a:ext cx="4572000" cy="130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buClr>
                    <a:srgbClr val="0000ff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4.                                    mass</a:t>
                </a:r>
                <a:r>
                  <a:rPr b="0" lang="en-GB" sz="1800" spc="-1" strike="noStrike" baseline="-25000">
                    <a:solidFill>
                      <a:srgbClr val="0000ff"/>
                    </a:solidFill>
                    <a:latin typeface="Arial"/>
                  </a:rPr>
                  <a:t>product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  x  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mass</a:t>
                </a:r>
                <a:r>
                  <a:rPr b="0" lang="en-GB" sz="1800" spc="-1" strike="noStrike" baseline="-25000">
                    <a:solidFill>
                      <a:srgbClr val="0000ff"/>
                    </a:solidFill>
                    <a:latin typeface="Arial"/>
                  </a:rPr>
                  <a:t>reacta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Rectangle 14"/>
            <p:cNvSpPr/>
            <p:nvPr/>
          </p:nvSpPr>
          <p:spPr>
            <a:xfrm>
              <a:off x="648000" y="4419720"/>
              <a:ext cx="251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ff"/>
                  </a:solidFill>
                  <a:latin typeface="Arial"/>
                </a:rPr>
                <a:t>%  Atom Economy  =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AutoShape 50">
            <a:hlinkClick r:id="" action="ppaction://hlinkshowjump?jump=nextslide"/>
          </p:cNvPr>
          <p:cNvSpPr/>
          <p:nvPr/>
        </p:nvSpPr>
        <p:spPr>
          <a:xfrm>
            <a:off x="8572680" y="2142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4"/>
          <p:cNvSpPr/>
          <p:nvPr/>
        </p:nvSpPr>
        <p:spPr>
          <a:xfrm>
            <a:off x="5214960" y="4071960"/>
            <a:ext cx="3357720" cy="252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Note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: reactions involving only the production of a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INGLE PRODUCT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will have 100% atom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e.g.  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+  Cl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2HCl    C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+  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C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+  3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2N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6512040" y="55404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428760" y="142920"/>
            <a:ext cx="8286480" cy="18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quation for the production of lime (CaO) from limestone (CaCO3)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aO  + 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% atom economy of this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066320" y="2428920"/>
            <a:ext cx="471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reactants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=   40.1 + 12.0  + 3(16.0)  = 100.1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049400" y="3056040"/>
            <a:ext cx="375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product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=   40.1  +  16.0  =  56.1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011960" y="3711600"/>
            <a:ext cx="38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%  Atom Economy  = 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56.1   x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10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6"/>
          <p:cNvSpPr/>
          <p:nvPr/>
        </p:nvSpPr>
        <p:spPr>
          <a:xfrm>
            <a:off x="4929120" y="36878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56.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0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428760" y="142920"/>
            <a:ext cx="828648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quations for the extraction of titanium from titanium(IV) oxide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C +  2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i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2Mg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i  +  2Mg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% atom economy of the overall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076400" y="3652920"/>
            <a:ext cx="692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reactants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=   47.9 + 2(16.0) + 12.0 + 2(2 x 35.5) + 2(24.3) = 282.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042560" y="4068720"/>
            <a:ext cx="209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product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=   47.9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044000" y="4510080"/>
            <a:ext cx="38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%  Atom Economy  = 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47.9   x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8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4929120" y="448632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17.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Rectangle 7" descr=""/>
          <p:cNvPicPr/>
          <p:nvPr/>
        </p:nvPicPr>
        <p:blipFill>
          <a:blip r:embed="rId1"/>
          <a:stretch/>
        </p:blipFill>
        <p:spPr>
          <a:xfrm>
            <a:off x="1011240" y="2998800"/>
            <a:ext cx="7066080" cy="3906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8"/>
          <p:cNvSpPr/>
          <p:nvPr/>
        </p:nvSpPr>
        <p:spPr>
          <a:xfrm>
            <a:off x="1000080" y="242892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ombining 2 equations for an overall equation g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9"/>
          <p:cNvSpPr/>
          <p:nvPr/>
        </p:nvSpPr>
        <p:spPr>
          <a:xfrm>
            <a:off x="1000080" y="5487840"/>
            <a:ext cx="72151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uch a low % atom economy is typical of a MULTISTAG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0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428760" y="142920"/>
            <a:ext cx="84294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quation for the extraction of copper from copper sulphide 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 + 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u + 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Calculate the % atom economy of the re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  If 9.60 tonnes of copper sulphide produce 4.80 tonnes of copper, calculate the % y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482760" y="2214720"/>
            <a:ext cx="75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      CuS     +      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+      S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1066680" y="2571840"/>
            <a:ext cx="504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reactants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=   (63.5 + 32.1)  +  (2 x 16)  =  127.6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042560" y="2928960"/>
            <a:ext cx="209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product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=   63.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011960" y="3336840"/>
            <a:ext cx="38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%  Atom Economy  = 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63.5    x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127.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4929120" y="33368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49.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428760" y="400068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.   Theoretically, in excess oxygen, one mole CuS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one mole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874800" y="435780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(63.5 + 32.1) g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63.5 g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0"/>
          <p:cNvSpPr/>
          <p:nvPr/>
        </p:nvSpPr>
        <p:spPr>
          <a:xfrm>
            <a:off x="857160" y="4703760"/>
            <a:ext cx="69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95.6 g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63.5 g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1"/>
          <p:cNvSpPr/>
          <p:nvPr/>
        </p:nvSpPr>
        <p:spPr>
          <a:xfrm>
            <a:off x="874800" y="506088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1.0 g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63.5 / 95.6  =  0.664 g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2"/>
          <p:cNvSpPr/>
          <p:nvPr/>
        </p:nvSpPr>
        <p:spPr>
          <a:xfrm>
            <a:off x="857160" y="5418000"/>
            <a:ext cx="69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1.0 tonnes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0.664 tonnes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3"/>
          <p:cNvSpPr/>
          <p:nvPr/>
        </p:nvSpPr>
        <p:spPr>
          <a:xfrm>
            <a:off x="857160" y="5775480"/>
            <a:ext cx="69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9.60 tonnes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9.60  x  0.664 =  6.38 tonnes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4"/>
          <p:cNvSpPr/>
          <p:nvPr/>
        </p:nvSpPr>
        <p:spPr>
          <a:xfrm>
            <a:off x="2281320" y="61578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% Yield Cu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5"/>
          <p:cNvSpPr/>
          <p:nvPr/>
        </p:nvSpPr>
        <p:spPr>
          <a:xfrm>
            <a:off x="3710160" y="615456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4.80  x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6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6"/>
          <p:cNvSpPr/>
          <p:nvPr/>
        </p:nvSpPr>
        <p:spPr>
          <a:xfrm>
            <a:off x="5210280" y="60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75.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0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11:43:52Z</dcterms:created>
  <dc:creator>Mike Hughes</dc:creator>
  <dc:description/>
  <dc:language>en-US</dc:language>
  <cp:lastModifiedBy>Nico Van De Casteele</cp:lastModifiedBy>
  <dcterms:modified xsi:type="dcterms:W3CDTF">2014-09-22T00:09:52Z</dcterms:modified>
  <cp:revision>34</cp:revision>
  <dc:subject/>
  <dc:title>Slide 1</dc:title>
</cp:coreProperties>
</file>